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8.wmf" ContentType="image/x-wmf"/>
  <Override PartName="/ppt/media/image13.png" ContentType="image/png"/>
  <Override PartName="/ppt/media/image17.png" ContentType="image/png"/>
  <Override PartName="/ppt/media/image16.wmf" ContentType="image/x-wmf"/>
  <Override PartName="/ppt/media/image4.jpeg" ContentType="image/jpeg"/>
  <Override PartName="/ppt/media/image14.wmf" ContentType="image/x-wmf"/>
  <Override PartName="/ppt/media/image15.wmf" ContentType="image/x-wmf"/>
  <Override PartName="/ppt/media/image1.jpeg" ContentType="image/jpeg"/>
  <Override PartName="/ppt/media/image5.png" ContentType="image/png"/>
  <Override PartName="/ppt/media/image10.png" ContentType="image/png"/>
  <Override PartName="/ppt/media/image2.wmf" ContentType="image/x-wmf"/>
  <Override PartName="/ppt/media/image3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7E4FC-59BB-4BBD-B2AE-92920B42F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FB058-9013-4A35-BC2D-615A1932D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AB9B0-C997-46CC-90FF-52C6E430D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06FA8-6237-4D7D-93D3-1757F7372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0F4C3-5B33-4237-B642-7C24F0160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DE3E4-E93C-4C2C-B899-20A651EC3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191C7-BFB6-4BAA-9CE3-862D168D8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7ABEA-9BA7-412A-A17B-73B63054A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B1C72-655F-4BD6-9138-26DA6757A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8136F-82F1-4D22-B42A-55EDDBBFF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12543-2A8A-46AE-AB1E-9932C2842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C56D7-306F-4420-A90E-8525CB3C7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FB908-CA52-4F1D-BABB-612F562B0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A34D8-3F01-407B-94E2-89698A72A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38459-87D3-43D5-9FA7-7753045EF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B773E-7DF7-4DF0-B027-F7A44E0B7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E5513-9943-4756-B5A5-FA69CA792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6CE22-42DE-48EF-93A0-F3946D83E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1B8F6-F3D7-4398-BE79-4CDF0431E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B9A65-9E91-4469-97FF-6D4808611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95EFD-29D9-4CF0-8C76-A1BCF4DB9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B30B5-8F5E-4BA8-A729-D59312847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80D40-1483-4B82-9636-35E716BD2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71246-E225-42D8-B41F-16B270BF7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81120"/>
            <a:ext cx="9142560" cy="5275440"/>
            <a:chOff x="0" y="1581120"/>
            <a:chExt cx="9142560" cy="5275440"/>
          </a:xfrm>
        </p:grpSpPr>
        <p:pic>
          <p:nvPicPr>
            <p:cNvPr id="1" name="Picture 3" descr=""/>
            <p:cNvPicPr/>
            <p:nvPr/>
          </p:nvPicPr>
          <p:blipFill>
            <a:blip r:embed="rId3"/>
            <a:srcRect l="0" t="0" r="27345" b="11443"/>
            <a:stretch/>
          </p:blipFill>
          <p:spPr>
            <a:xfrm>
              <a:off x="6311880" y="2259000"/>
              <a:ext cx="2830680" cy="45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Freeform 4"/>
            <p:cNvSpPr/>
            <p:nvPr/>
          </p:nvSpPr>
          <p:spPr>
            <a:xfrm>
              <a:off x="0" y="5591160"/>
              <a:ext cx="3983040" cy="311040"/>
            </a:xfrm>
            <a:custGeom>
              <a:avLst/>
              <a:gdLst>
                <a:gd name="textAreaLeft" fmla="*/ 0 w 3983040"/>
                <a:gd name="textAreaRight" fmla="*/ 3983400 w 398304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w="2509" h="196">
                  <a:moveTo>
                    <a:pt x="5" y="93"/>
                  </a:moveTo>
                  <a:lnTo>
                    <a:pt x="39" y="61"/>
                  </a:lnTo>
                  <a:lnTo>
                    <a:pt x="71" y="43"/>
                  </a:lnTo>
                  <a:lnTo>
                    <a:pt x="104" y="28"/>
                  </a:lnTo>
                  <a:lnTo>
                    <a:pt x="144" y="18"/>
                  </a:lnTo>
                  <a:lnTo>
                    <a:pt x="182" y="13"/>
                  </a:lnTo>
                  <a:lnTo>
                    <a:pt x="227" y="10"/>
                  </a:lnTo>
                  <a:lnTo>
                    <a:pt x="281" y="13"/>
                  </a:lnTo>
                  <a:lnTo>
                    <a:pt x="321" y="22"/>
                  </a:lnTo>
                  <a:lnTo>
                    <a:pt x="357" y="34"/>
                  </a:lnTo>
                  <a:lnTo>
                    <a:pt x="408" y="60"/>
                  </a:lnTo>
                  <a:lnTo>
                    <a:pt x="440" y="85"/>
                  </a:lnTo>
                  <a:lnTo>
                    <a:pt x="474" y="111"/>
                  </a:lnTo>
                  <a:lnTo>
                    <a:pt x="509" y="129"/>
                  </a:lnTo>
                  <a:lnTo>
                    <a:pt x="561" y="142"/>
                  </a:lnTo>
                  <a:lnTo>
                    <a:pt x="626" y="148"/>
                  </a:lnTo>
                  <a:lnTo>
                    <a:pt x="677" y="145"/>
                  </a:lnTo>
                  <a:lnTo>
                    <a:pt x="728" y="135"/>
                  </a:lnTo>
                  <a:lnTo>
                    <a:pt x="770" y="117"/>
                  </a:lnTo>
                  <a:lnTo>
                    <a:pt x="806" y="93"/>
                  </a:lnTo>
                  <a:lnTo>
                    <a:pt x="860" y="57"/>
                  </a:lnTo>
                  <a:lnTo>
                    <a:pt x="899" y="36"/>
                  </a:lnTo>
                  <a:lnTo>
                    <a:pt x="950" y="13"/>
                  </a:lnTo>
                  <a:lnTo>
                    <a:pt x="998" y="4"/>
                  </a:lnTo>
                  <a:lnTo>
                    <a:pt x="1043" y="3"/>
                  </a:lnTo>
                  <a:lnTo>
                    <a:pt x="1119" y="6"/>
                  </a:lnTo>
                  <a:lnTo>
                    <a:pt x="1181" y="21"/>
                  </a:lnTo>
                  <a:lnTo>
                    <a:pt x="1214" y="39"/>
                  </a:lnTo>
                  <a:lnTo>
                    <a:pt x="1260" y="66"/>
                  </a:lnTo>
                  <a:lnTo>
                    <a:pt x="1308" y="102"/>
                  </a:lnTo>
                  <a:lnTo>
                    <a:pt x="1349" y="121"/>
                  </a:lnTo>
                  <a:lnTo>
                    <a:pt x="1403" y="133"/>
                  </a:lnTo>
                  <a:lnTo>
                    <a:pt x="1458" y="138"/>
                  </a:lnTo>
                  <a:lnTo>
                    <a:pt x="1514" y="133"/>
                  </a:lnTo>
                  <a:lnTo>
                    <a:pt x="1557" y="123"/>
                  </a:lnTo>
                  <a:lnTo>
                    <a:pt x="1593" y="111"/>
                  </a:lnTo>
                  <a:lnTo>
                    <a:pt x="1635" y="84"/>
                  </a:lnTo>
                  <a:lnTo>
                    <a:pt x="1668" y="61"/>
                  </a:lnTo>
                  <a:lnTo>
                    <a:pt x="1704" y="39"/>
                  </a:lnTo>
                  <a:lnTo>
                    <a:pt x="1754" y="18"/>
                  </a:lnTo>
                  <a:lnTo>
                    <a:pt x="1794" y="6"/>
                  </a:lnTo>
                  <a:lnTo>
                    <a:pt x="1844" y="1"/>
                  </a:lnTo>
                  <a:lnTo>
                    <a:pt x="1907" y="0"/>
                  </a:lnTo>
                  <a:lnTo>
                    <a:pt x="1958" y="4"/>
                  </a:lnTo>
                  <a:lnTo>
                    <a:pt x="2003" y="18"/>
                  </a:lnTo>
                  <a:lnTo>
                    <a:pt x="2039" y="33"/>
                  </a:lnTo>
                  <a:lnTo>
                    <a:pt x="2073" y="54"/>
                  </a:lnTo>
                  <a:lnTo>
                    <a:pt x="2118" y="88"/>
                  </a:lnTo>
                  <a:lnTo>
                    <a:pt x="2153" y="109"/>
                  </a:lnTo>
                  <a:lnTo>
                    <a:pt x="2192" y="124"/>
                  </a:lnTo>
                  <a:lnTo>
                    <a:pt x="2244" y="135"/>
                  </a:lnTo>
                  <a:lnTo>
                    <a:pt x="2303" y="138"/>
                  </a:lnTo>
                  <a:lnTo>
                    <a:pt x="2355" y="129"/>
                  </a:lnTo>
                  <a:lnTo>
                    <a:pt x="2412" y="106"/>
                  </a:lnTo>
                  <a:lnTo>
                    <a:pt x="2439" y="87"/>
                  </a:lnTo>
                  <a:lnTo>
                    <a:pt x="2463" y="66"/>
                  </a:lnTo>
                  <a:lnTo>
                    <a:pt x="2475" y="61"/>
                  </a:lnTo>
                  <a:lnTo>
                    <a:pt x="2489" y="61"/>
                  </a:lnTo>
                  <a:lnTo>
                    <a:pt x="2499" y="66"/>
                  </a:lnTo>
                  <a:lnTo>
                    <a:pt x="2507" y="76"/>
                  </a:lnTo>
                  <a:lnTo>
                    <a:pt x="2508" y="85"/>
                  </a:lnTo>
                  <a:lnTo>
                    <a:pt x="2508" y="96"/>
                  </a:lnTo>
                  <a:lnTo>
                    <a:pt x="2504" y="106"/>
                  </a:lnTo>
                  <a:lnTo>
                    <a:pt x="2490" y="118"/>
                  </a:lnTo>
                  <a:lnTo>
                    <a:pt x="2463" y="139"/>
                  </a:lnTo>
                  <a:lnTo>
                    <a:pt x="2429" y="160"/>
                  </a:lnTo>
                  <a:lnTo>
                    <a:pt x="2399" y="172"/>
                  </a:lnTo>
                  <a:lnTo>
                    <a:pt x="2352" y="183"/>
                  </a:lnTo>
                  <a:lnTo>
                    <a:pt x="2298" y="186"/>
                  </a:lnTo>
                  <a:lnTo>
                    <a:pt x="2238" y="184"/>
                  </a:lnTo>
                  <a:lnTo>
                    <a:pt x="2192" y="180"/>
                  </a:lnTo>
                  <a:lnTo>
                    <a:pt x="2156" y="172"/>
                  </a:lnTo>
                  <a:lnTo>
                    <a:pt x="2114" y="156"/>
                  </a:lnTo>
                  <a:lnTo>
                    <a:pt x="2076" y="133"/>
                  </a:lnTo>
                  <a:lnTo>
                    <a:pt x="2049" y="112"/>
                  </a:lnTo>
                  <a:lnTo>
                    <a:pt x="2018" y="87"/>
                  </a:lnTo>
                  <a:lnTo>
                    <a:pt x="1977" y="67"/>
                  </a:lnTo>
                  <a:lnTo>
                    <a:pt x="1934" y="55"/>
                  </a:lnTo>
                  <a:lnTo>
                    <a:pt x="1886" y="49"/>
                  </a:lnTo>
                  <a:lnTo>
                    <a:pt x="1836" y="49"/>
                  </a:lnTo>
                  <a:lnTo>
                    <a:pt x="1776" y="64"/>
                  </a:lnTo>
                  <a:lnTo>
                    <a:pt x="1743" y="79"/>
                  </a:lnTo>
                  <a:lnTo>
                    <a:pt x="1707" y="99"/>
                  </a:lnTo>
                  <a:lnTo>
                    <a:pt x="1677" y="118"/>
                  </a:lnTo>
                  <a:lnTo>
                    <a:pt x="1626" y="147"/>
                  </a:lnTo>
                  <a:lnTo>
                    <a:pt x="1586" y="165"/>
                  </a:lnTo>
                  <a:lnTo>
                    <a:pt x="1535" y="180"/>
                  </a:lnTo>
                  <a:lnTo>
                    <a:pt x="1475" y="186"/>
                  </a:lnTo>
                  <a:lnTo>
                    <a:pt x="1437" y="186"/>
                  </a:lnTo>
                  <a:lnTo>
                    <a:pt x="1377" y="180"/>
                  </a:lnTo>
                  <a:lnTo>
                    <a:pt x="1322" y="165"/>
                  </a:lnTo>
                  <a:lnTo>
                    <a:pt x="1269" y="136"/>
                  </a:lnTo>
                  <a:lnTo>
                    <a:pt x="1230" y="109"/>
                  </a:lnTo>
                  <a:lnTo>
                    <a:pt x="1197" y="84"/>
                  </a:lnTo>
                  <a:lnTo>
                    <a:pt x="1163" y="67"/>
                  </a:lnTo>
                  <a:lnTo>
                    <a:pt x="1128" y="55"/>
                  </a:lnTo>
                  <a:lnTo>
                    <a:pt x="1071" y="48"/>
                  </a:lnTo>
                  <a:lnTo>
                    <a:pt x="1020" y="49"/>
                  </a:lnTo>
                  <a:lnTo>
                    <a:pt x="974" y="57"/>
                  </a:lnTo>
                  <a:lnTo>
                    <a:pt x="914" y="78"/>
                  </a:lnTo>
                  <a:lnTo>
                    <a:pt x="879" y="103"/>
                  </a:lnTo>
                  <a:lnTo>
                    <a:pt x="831" y="135"/>
                  </a:lnTo>
                  <a:lnTo>
                    <a:pt x="777" y="166"/>
                  </a:lnTo>
                  <a:lnTo>
                    <a:pt x="713" y="187"/>
                  </a:lnTo>
                  <a:lnTo>
                    <a:pt x="659" y="193"/>
                  </a:lnTo>
                  <a:lnTo>
                    <a:pt x="600" y="195"/>
                  </a:lnTo>
                  <a:lnTo>
                    <a:pt x="543" y="189"/>
                  </a:lnTo>
                  <a:lnTo>
                    <a:pt x="494" y="175"/>
                  </a:lnTo>
                  <a:lnTo>
                    <a:pt x="450" y="154"/>
                  </a:lnTo>
                  <a:lnTo>
                    <a:pt x="408" y="123"/>
                  </a:lnTo>
                  <a:lnTo>
                    <a:pt x="377" y="99"/>
                  </a:lnTo>
                  <a:lnTo>
                    <a:pt x="338" y="79"/>
                  </a:lnTo>
                  <a:lnTo>
                    <a:pt x="291" y="64"/>
                  </a:lnTo>
                  <a:lnTo>
                    <a:pt x="251" y="60"/>
                  </a:lnTo>
                  <a:lnTo>
                    <a:pt x="191" y="58"/>
                  </a:lnTo>
                  <a:lnTo>
                    <a:pt x="144" y="67"/>
                  </a:lnTo>
                  <a:lnTo>
                    <a:pt x="96" y="82"/>
                  </a:lnTo>
                  <a:lnTo>
                    <a:pt x="56" y="108"/>
                  </a:lnTo>
                  <a:lnTo>
                    <a:pt x="0" y="157"/>
                  </a:lnTo>
                  <a:lnTo>
                    <a:pt x="5" y="93"/>
                  </a:lnTo>
                </a:path>
              </a:pathLst>
            </a:custGeom>
            <a:solidFill>
              <a:srgbClr val="c9c2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4"/>
            <a:stretch/>
          </p:blipFill>
          <p:spPr>
            <a:xfrm>
              <a:off x="0" y="1581120"/>
              <a:ext cx="4390920" cy="34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9676d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61319-8FCC-4E54-B29A-506237F294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2259000"/>
            <a:ext cx="9142560" cy="4597560"/>
            <a:chOff x="0" y="2259000"/>
            <a:chExt cx="9142560" cy="4597560"/>
          </a:xfrm>
        </p:grpSpPr>
        <p:pic>
          <p:nvPicPr>
            <p:cNvPr id="46" name="Picture 3" descr=""/>
            <p:cNvPicPr/>
            <p:nvPr/>
          </p:nvPicPr>
          <p:blipFill>
            <a:blip r:embed="rId3"/>
            <a:srcRect l="0" t="0" r="27345" b="11443"/>
            <a:stretch/>
          </p:blipFill>
          <p:spPr>
            <a:xfrm>
              <a:off x="6311880" y="2259000"/>
              <a:ext cx="2830680" cy="45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Freeform 4"/>
            <p:cNvSpPr/>
            <p:nvPr/>
          </p:nvSpPr>
          <p:spPr>
            <a:xfrm>
              <a:off x="0" y="5362560"/>
              <a:ext cx="3983040" cy="311040"/>
            </a:xfrm>
            <a:custGeom>
              <a:avLst/>
              <a:gdLst>
                <a:gd name="textAreaLeft" fmla="*/ 0 w 3983040"/>
                <a:gd name="textAreaRight" fmla="*/ 3983400 w 398304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w="2509" h="196">
                  <a:moveTo>
                    <a:pt x="5" y="93"/>
                  </a:moveTo>
                  <a:lnTo>
                    <a:pt x="39" y="61"/>
                  </a:lnTo>
                  <a:lnTo>
                    <a:pt x="71" y="43"/>
                  </a:lnTo>
                  <a:lnTo>
                    <a:pt x="104" y="28"/>
                  </a:lnTo>
                  <a:lnTo>
                    <a:pt x="144" y="18"/>
                  </a:lnTo>
                  <a:lnTo>
                    <a:pt x="182" y="13"/>
                  </a:lnTo>
                  <a:lnTo>
                    <a:pt x="227" y="10"/>
                  </a:lnTo>
                  <a:lnTo>
                    <a:pt x="281" y="13"/>
                  </a:lnTo>
                  <a:lnTo>
                    <a:pt x="321" y="22"/>
                  </a:lnTo>
                  <a:lnTo>
                    <a:pt x="357" y="34"/>
                  </a:lnTo>
                  <a:lnTo>
                    <a:pt x="408" y="60"/>
                  </a:lnTo>
                  <a:lnTo>
                    <a:pt x="440" y="85"/>
                  </a:lnTo>
                  <a:lnTo>
                    <a:pt x="474" y="111"/>
                  </a:lnTo>
                  <a:lnTo>
                    <a:pt x="509" y="129"/>
                  </a:lnTo>
                  <a:lnTo>
                    <a:pt x="561" y="142"/>
                  </a:lnTo>
                  <a:lnTo>
                    <a:pt x="626" y="148"/>
                  </a:lnTo>
                  <a:lnTo>
                    <a:pt x="677" y="145"/>
                  </a:lnTo>
                  <a:lnTo>
                    <a:pt x="728" y="135"/>
                  </a:lnTo>
                  <a:lnTo>
                    <a:pt x="770" y="117"/>
                  </a:lnTo>
                  <a:lnTo>
                    <a:pt x="806" y="93"/>
                  </a:lnTo>
                  <a:lnTo>
                    <a:pt x="860" y="57"/>
                  </a:lnTo>
                  <a:lnTo>
                    <a:pt x="899" y="36"/>
                  </a:lnTo>
                  <a:lnTo>
                    <a:pt x="950" y="13"/>
                  </a:lnTo>
                  <a:lnTo>
                    <a:pt x="998" y="4"/>
                  </a:lnTo>
                  <a:lnTo>
                    <a:pt x="1043" y="3"/>
                  </a:lnTo>
                  <a:lnTo>
                    <a:pt x="1119" y="6"/>
                  </a:lnTo>
                  <a:lnTo>
                    <a:pt x="1181" y="21"/>
                  </a:lnTo>
                  <a:lnTo>
                    <a:pt x="1214" y="39"/>
                  </a:lnTo>
                  <a:lnTo>
                    <a:pt x="1260" y="66"/>
                  </a:lnTo>
                  <a:lnTo>
                    <a:pt x="1308" y="102"/>
                  </a:lnTo>
                  <a:lnTo>
                    <a:pt x="1349" y="121"/>
                  </a:lnTo>
                  <a:lnTo>
                    <a:pt x="1403" y="133"/>
                  </a:lnTo>
                  <a:lnTo>
                    <a:pt x="1458" y="138"/>
                  </a:lnTo>
                  <a:lnTo>
                    <a:pt x="1514" y="133"/>
                  </a:lnTo>
                  <a:lnTo>
                    <a:pt x="1557" y="123"/>
                  </a:lnTo>
                  <a:lnTo>
                    <a:pt x="1593" y="111"/>
                  </a:lnTo>
                  <a:lnTo>
                    <a:pt x="1635" y="84"/>
                  </a:lnTo>
                  <a:lnTo>
                    <a:pt x="1668" y="61"/>
                  </a:lnTo>
                  <a:lnTo>
                    <a:pt x="1704" y="39"/>
                  </a:lnTo>
                  <a:lnTo>
                    <a:pt x="1754" y="18"/>
                  </a:lnTo>
                  <a:lnTo>
                    <a:pt x="1794" y="6"/>
                  </a:lnTo>
                  <a:lnTo>
                    <a:pt x="1844" y="1"/>
                  </a:lnTo>
                  <a:lnTo>
                    <a:pt x="1907" y="0"/>
                  </a:lnTo>
                  <a:lnTo>
                    <a:pt x="1958" y="4"/>
                  </a:lnTo>
                  <a:lnTo>
                    <a:pt x="2003" y="18"/>
                  </a:lnTo>
                  <a:lnTo>
                    <a:pt x="2039" y="33"/>
                  </a:lnTo>
                  <a:lnTo>
                    <a:pt x="2073" y="54"/>
                  </a:lnTo>
                  <a:lnTo>
                    <a:pt x="2118" y="88"/>
                  </a:lnTo>
                  <a:lnTo>
                    <a:pt x="2153" y="109"/>
                  </a:lnTo>
                  <a:lnTo>
                    <a:pt x="2192" y="124"/>
                  </a:lnTo>
                  <a:lnTo>
                    <a:pt x="2244" y="135"/>
                  </a:lnTo>
                  <a:lnTo>
                    <a:pt x="2303" y="138"/>
                  </a:lnTo>
                  <a:lnTo>
                    <a:pt x="2355" y="129"/>
                  </a:lnTo>
                  <a:lnTo>
                    <a:pt x="2412" y="106"/>
                  </a:lnTo>
                  <a:lnTo>
                    <a:pt x="2439" y="87"/>
                  </a:lnTo>
                  <a:lnTo>
                    <a:pt x="2463" y="66"/>
                  </a:lnTo>
                  <a:lnTo>
                    <a:pt x="2475" y="61"/>
                  </a:lnTo>
                  <a:lnTo>
                    <a:pt x="2489" y="61"/>
                  </a:lnTo>
                  <a:lnTo>
                    <a:pt x="2499" y="66"/>
                  </a:lnTo>
                  <a:lnTo>
                    <a:pt x="2507" y="76"/>
                  </a:lnTo>
                  <a:lnTo>
                    <a:pt x="2508" y="85"/>
                  </a:lnTo>
                  <a:lnTo>
                    <a:pt x="2508" y="96"/>
                  </a:lnTo>
                  <a:lnTo>
                    <a:pt x="2504" y="106"/>
                  </a:lnTo>
                  <a:lnTo>
                    <a:pt x="2490" y="118"/>
                  </a:lnTo>
                  <a:lnTo>
                    <a:pt x="2463" y="139"/>
                  </a:lnTo>
                  <a:lnTo>
                    <a:pt x="2429" y="160"/>
                  </a:lnTo>
                  <a:lnTo>
                    <a:pt x="2399" y="172"/>
                  </a:lnTo>
                  <a:lnTo>
                    <a:pt x="2352" y="183"/>
                  </a:lnTo>
                  <a:lnTo>
                    <a:pt x="2298" y="186"/>
                  </a:lnTo>
                  <a:lnTo>
                    <a:pt x="2238" y="184"/>
                  </a:lnTo>
                  <a:lnTo>
                    <a:pt x="2192" y="180"/>
                  </a:lnTo>
                  <a:lnTo>
                    <a:pt x="2156" y="172"/>
                  </a:lnTo>
                  <a:lnTo>
                    <a:pt x="2114" y="156"/>
                  </a:lnTo>
                  <a:lnTo>
                    <a:pt x="2076" y="133"/>
                  </a:lnTo>
                  <a:lnTo>
                    <a:pt x="2049" y="112"/>
                  </a:lnTo>
                  <a:lnTo>
                    <a:pt x="2018" y="87"/>
                  </a:lnTo>
                  <a:lnTo>
                    <a:pt x="1977" y="67"/>
                  </a:lnTo>
                  <a:lnTo>
                    <a:pt x="1934" y="55"/>
                  </a:lnTo>
                  <a:lnTo>
                    <a:pt x="1886" y="49"/>
                  </a:lnTo>
                  <a:lnTo>
                    <a:pt x="1836" y="49"/>
                  </a:lnTo>
                  <a:lnTo>
                    <a:pt x="1776" y="64"/>
                  </a:lnTo>
                  <a:lnTo>
                    <a:pt x="1743" y="79"/>
                  </a:lnTo>
                  <a:lnTo>
                    <a:pt x="1707" y="99"/>
                  </a:lnTo>
                  <a:lnTo>
                    <a:pt x="1677" y="118"/>
                  </a:lnTo>
                  <a:lnTo>
                    <a:pt x="1626" y="147"/>
                  </a:lnTo>
                  <a:lnTo>
                    <a:pt x="1586" y="165"/>
                  </a:lnTo>
                  <a:lnTo>
                    <a:pt x="1535" y="180"/>
                  </a:lnTo>
                  <a:lnTo>
                    <a:pt x="1475" y="186"/>
                  </a:lnTo>
                  <a:lnTo>
                    <a:pt x="1437" y="186"/>
                  </a:lnTo>
                  <a:lnTo>
                    <a:pt x="1377" y="180"/>
                  </a:lnTo>
                  <a:lnTo>
                    <a:pt x="1322" y="165"/>
                  </a:lnTo>
                  <a:lnTo>
                    <a:pt x="1269" y="136"/>
                  </a:lnTo>
                  <a:lnTo>
                    <a:pt x="1230" y="109"/>
                  </a:lnTo>
                  <a:lnTo>
                    <a:pt x="1197" y="84"/>
                  </a:lnTo>
                  <a:lnTo>
                    <a:pt x="1163" y="67"/>
                  </a:lnTo>
                  <a:lnTo>
                    <a:pt x="1128" y="55"/>
                  </a:lnTo>
                  <a:lnTo>
                    <a:pt x="1071" y="48"/>
                  </a:lnTo>
                  <a:lnTo>
                    <a:pt x="1020" y="49"/>
                  </a:lnTo>
                  <a:lnTo>
                    <a:pt x="974" y="57"/>
                  </a:lnTo>
                  <a:lnTo>
                    <a:pt x="914" y="78"/>
                  </a:lnTo>
                  <a:lnTo>
                    <a:pt x="879" y="103"/>
                  </a:lnTo>
                  <a:lnTo>
                    <a:pt x="831" y="135"/>
                  </a:lnTo>
                  <a:lnTo>
                    <a:pt x="777" y="166"/>
                  </a:lnTo>
                  <a:lnTo>
                    <a:pt x="713" y="187"/>
                  </a:lnTo>
                  <a:lnTo>
                    <a:pt x="659" y="193"/>
                  </a:lnTo>
                  <a:lnTo>
                    <a:pt x="600" y="195"/>
                  </a:lnTo>
                  <a:lnTo>
                    <a:pt x="543" y="189"/>
                  </a:lnTo>
                  <a:lnTo>
                    <a:pt x="494" y="175"/>
                  </a:lnTo>
                  <a:lnTo>
                    <a:pt x="450" y="154"/>
                  </a:lnTo>
                  <a:lnTo>
                    <a:pt x="408" y="123"/>
                  </a:lnTo>
                  <a:lnTo>
                    <a:pt x="377" y="99"/>
                  </a:lnTo>
                  <a:lnTo>
                    <a:pt x="338" y="79"/>
                  </a:lnTo>
                  <a:lnTo>
                    <a:pt x="291" y="64"/>
                  </a:lnTo>
                  <a:lnTo>
                    <a:pt x="251" y="60"/>
                  </a:lnTo>
                  <a:lnTo>
                    <a:pt x="191" y="58"/>
                  </a:lnTo>
                  <a:lnTo>
                    <a:pt x="144" y="67"/>
                  </a:lnTo>
                  <a:lnTo>
                    <a:pt x="96" y="82"/>
                  </a:lnTo>
                  <a:lnTo>
                    <a:pt x="56" y="108"/>
                  </a:lnTo>
                  <a:lnTo>
                    <a:pt x="0" y="157"/>
                  </a:lnTo>
                  <a:lnTo>
                    <a:pt x="5" y="93"/>
                  </a:lnTo>
                </a:path>
              </a:pathLst>
            </a:custGeom>
            <a:solidFill>
              <a:srgbClr val="c9c2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4"/>
            <a:stretch/>
          </p:blipFill>
          <p:spPr>
            <a:xfrm>
              <a:off x="0" y="3486240"/>
              <a:ext cx="4390920" cy="342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9676d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F41DA-9ABA-4601-9E9E-C37D174121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2.scholastic.com/browse/lessonplan.jsp?id=1315" TargetMode="External"/><Relationship Id="rId2" Type="http://schemas.openxmlformats.org/officeDocument/2006/relationships/hyperlink" Target="http://www2.scholastic.com/browse/lessonplan.jsp?id=1316&amp;FullBreadCrumb=%3Ca+href%3D%22http%3A%2F%2Fwww2.scholastic.com%2Fbrowse%2Fsearch%2F%3FNtx%3Dmode%2Bmatchallpartial%26_N%3Dfff%26Ntk%3DSCHL30_SI%26query%3Darea%2520lesson%2520plan%26Nr%3DOR%28Resource" TargetMode="External"/><Relationship Id="rId3" Type="http://schemas.openxmlformats.org/officeDocument/2006/relationships/hyperlink" Target="file:///Ed%20725.03%20Decimal%20lesson%20plan.docx" TargetMode="External"/><Relationship Id="rId4" Type="http://schemas.openxmlformats.org/officeDocument/2006/relationships/hyperlink" Target="file:///Lattice%20lesson%20plan.docx" TargetMode="External"/><Relationship Id="rId5" Type="http://schemas.openxmlformats.org/officeDocument/2006/relationships/hyperlink" Target="file:///The%20Ratio%20of%20Circumference%20to%20Diameter.docx" TargetMode="External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gyptvoyager.com/karnak_virtual.htm" TargetMode="Externa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spreadsheets.google.com/viewform?formkey=dENEOTJrOHdpUU5RNVNSYWpBUHZGZmc6MQ" TargetMode="External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hyperlink" Target="http://www2.scholastic.com/browse/lessonplan.jsp?id=1315" TargetMode="External"/><Relationship Id="rId3" Type="http://schemas.openxmlformats.org/officeDocument/2006/relationships/hyperlink" Target="http://mackey1blog.blogspot.com/" TargetMode="External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2.scholastic.com/browse/lessonplan.jsp?id=1316&amp;FullBreadCrumb=%3Ca+href%3D%22http%3A%2F%2Fwww2.scholastic.com%2Fbrowse%2Fsearch%2F%3FNtx%3Dmode%2Bmatchallpartial%26_N%3Dfff%26Ntk%3DSCHL30_SI%26query%3Darea%2520lesson%2520plan%26Nr%3DOR%28Resource" TargetMode="External"/><Relationship Id="rId2" Type="http://schemas.openxmlformats.org/officeDocument/2006/relationships/image" Target="../media/image13.png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r>
              <a:rPr b="0" i="1" lang="en-US" sz="6600" spc="-1" strike="noStrike">
                <a:solidFill>
                  <a:srgbClr val="69676d"/>
                </a:solidFill>
                <a:latin typeface="Arial"/>
              </a:rPr>
              <a:t>Geometry Unit</a:t>
            </a:r>
            <a:endParaRPr b="0" lang="en-US" sz="66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s. Mack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s 5-5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 2" descr="C:\Users\Mommy\AppData\Local\Microsoft\Windows\Temporary Internet Files\Content.IE5\42FG7R33\MC900335621[1].wmf"/>
          <p:cNvPicPr/>
          <p:nvPr/>
        </p:nvPicPr>
        <p:blipFill>
          <a:blip r:embed="rId1"/>
          <a:stretch/>
        </p:blipFill>
        <p:spPr>
          <a:xfrm>
            <a:off x="2462040" y="96840"/>
            <a:ext cx="4365720" cy="37623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" descr="C:\Users\Mommy\AppData\Local\Microsoft\Windows\Temporary Internet Files\Content.IE5\1HVGCSDW\MC900150507[1].wmf"/>
          <p:cNvPicPr/>
          <p:nvPr/>
        </p:nvPicPr>
        <p:blipFill>
          <a:blip r:embed="rId2"/>
          <a:stretch/>
        </p:blipFill>
        <p:spPr>
          <a:xfrm>
            <a:off x="457200" y="3733920"/>
            <a:ext cx="2293920" cy="252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9676d"/>
                </a:solidFill>
                <a:latin typeface="바탕"/>
                <a:ea typeface="바탕"/>
              </a:rPr>
              <a:t>Lattice Multiplication</a:t>
            </a:r>
            <a:endParaRPr b="0" lang="en-US" sz="4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ata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바탕"/>
                <a:ea typeface="바탕"/>
              </a:rPr>
              <a:t>You can also use the lattice method for multi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Tube - Mathcast: How to do Lattice Multi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Picture 2" descr="C:\Users\Mommy\AppData\Local\Microsoft\Windows\Temporary Internet Files\Content.IE5\KOWVG51S\MC900434403[1].wmf"/>
          <p:cNvPicPr/>
          <p:nvPr/>
        </p:nvPicPr>
        <p:blipFill>
          <a:blip r:embed="rId1"/>
          <a:stretch/>
        </p:blipFill>
        <p:spPr>
          <a:xfrm>
            <a:off x="1219320" y="3886200"/>
            <a:ext cx="1676160" cy="1908000"/>
          </a:xfrm>
          <a:prstGeom prst="rect">
            <a:avLst/>
          </a:prstGeom>
          <a:ln w="0">
            <a:noFill/>
          </a:ln>
        </p:spPr>
      </p:pic>
      <p:sp>
        <p:nvSpPr>
          <p:cNvPr id="123" name="Cloud Callout 5"/>
          <p:cNvSpPr/>
          <p:nvPr/>
        </p:nvSpPr>
        <p:spPr>
          <a:xfrm>
            <a:off x="2743200" y="3429000"/>
            <a:ext cx="1600200" cy="114300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on’t remember? Click on the link to the righ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3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4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6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8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0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9676d"/>
                </a:solidFill>
                <a:latin typeface="바탕"/>
                <a:ea typeface="바탕"/>
              </a:rPr>
              <a:t>Circumference</a:t>
            </a:r>
            <a:endParaRPr b="0" lang="en-US" sz="4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-3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fore we start, let’s review the basic parts of a circ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Content Placeholder 4" descr="full circle.jpg"/>
          <p:cNvPicPr/>
          <p:nvPr/>
        </p:nvPicPr>
        <p:blipFill>
          <a:blip r:embed="rId1"/>
          <a:stretch/>
        </p:blipFill>
        <p:spPr>
          <a:xfrm>
            <a:off x="3529080" y="2004840"/>
            <a:ext cx="5054400" cy="599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9676d"/>
                </a:solidFill>
                <a:latin typeface="Times New Roman"/>
              </a:rPr>
              <a:t>Assessments</a:t>
            </a:r>
            <a:endParaRPr b="0" lang="en-US" sz="4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rite a letter to fellow student explaining a math proced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plain” a math concept using a Web 2.0 tool including moviemaker, PowerPoint, podcast,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formance/traditional assessme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9676d"/>
                </a:solidFill>
                <a:latin typeface="Times New Roman"/>
                <a:ea typeface="바탕"/>
              </a:rPr>
              <a:t>Core Knowledge Curriculum</a:t>
            </a:r>
            <a:endParaRPr b="0" lang="en-US" sz="4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ore Knowledge Curricul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atang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바탕"/>
                <a:ea typeface="바탕"/>
              </a:rPr>
              <a:t>Proposes that all classrooms and all communities require some common ground for communication and lear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atang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바탕"/>
                <a:ea typeface="바탕"/>
              </a:rPr>
              <a:t>Attempts to “level the playing field” for learners of varied backgrou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atang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00000"/>
                </a:solidFill>
                <a:latin typeface="바탕"/>
                <a:ea typeface="바탕"/>
              </a:rPr>
              <a:t>The Core Knowledge Series</a:t>
            </a:r>
            <a:r>
              <a:rPr b="0" lang="en-US" sz="1400" spc="-1" strike="noStrike">
                <a:solidFill>
                  <a:srgbClr val="000000"/>
                </a:solidFill>
                <a:latin typeface="바탕"/>
                <a:ea typeface="바탕"/>
              </a:rPr>
              <a:t>, </a:t>
            </a:r>
            <a:r>
              <a:rPr b="1" i="1" lang="en-US" sz="1400" spc="-1" strike="noStrike">
                <a:solidFill>
                  <a:srgbClr val="000000"/>
                </a:solidFill>
                <a:latin typeface="바탕"/>
                <a:ea typeface="바탕"/>
              </a:rPr>
              <a:t>What your Fifth Grader needs to know </a:t>
            </a:r>
            <a:r>
              <a:rPr b="0" lang="en-US" sz="1400" spc="-1" strike="noStrike">
                <a:solidFill>
                  <a:srgbClr val="000000"/>
                </a:solidFill>
                <a:latin typeface="바탕"/>
                <a:ea typeface="바탕"/>
              </a:rPr>
              <a:t>Edited by E.D. Hirsch, J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9676d"/>
                </a:solidFill>
                <a:latin typeface="Times New Roman"/>
                <a:ea typeface="바탕"/>
              </a:rPr>
              <a:t>Reading Workshop Model</a:t>
            </a:r>
            <a:endParaRPr b="0" lang="en-US" sz="4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acher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odels (I d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ork together (guide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ry it on your own (you d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2" descr="C:\Program Files\Microsoft Office\MEDIA\CAGCAT10\j0301252.wmf"/>
          <p:cNvPicPr/>
          <p:nvPr/>
        </p:nvPicPr>
        <p:blipFill>
          <a:blip r:embed="rId1"/>
          <a:stretch/>
        </p:blipFill>
        <p:spPr>
          <a:xfrm>
            <a:off x="838080" y="3962520"/>
            <a:ext cx="1830600" cy="15652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3" descr="C:\Users\Mommy\AppData\Local\Microsoft\Windows\Temporary Internet Files\Content.IE5\42FG7R33\MC900436161[1].wmf"/>
          <p:cNvPicPr/>
          <p:nvPr/>
        </p:nvPicPr>
        <p:blipFill>
          <a:blip r:embed="rId2"/>
          <a:stretch/>
        </p:blipFill>
        <p:spPr>
          <a:xfrm>
            <a:off x="3505320" y="4114800"/>
            <a:ext cx="1841400" cy="13273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4" descr="C:\Users\Mommy\AppData\Local\Microsoft\Windows\Temporary Internet Files\Content.IE5\1HVGCSDW\MP900408982[1].jpg"/>
          <p:cNvPicPr/>
          <p:nvPr/>
        </p:nvPicPr>
        <p:blipFill>
          <a:blip r:embed="rId3"/>
          <a:stretch/>
        </p:blipFill>
        <p:spPr>
          <a:xfrm>
            <a:off x="6248520" y="4038480"/>
            <a:ext cx="1447560" cy="14479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9676d"/>
                </a:solidFill>
                <a:latin typeface="Times New Roman"/>
                <a:ea typeface="바탕"/>
              </a:rPr>
              <a:t>Lesson Plans</a:t>
            </a:r>
            <a:endParaRPr b="0" lang="en-US" sz="4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ata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410082"/>
                </a:solidFill>
                <a:uFillTx/>
                <a:latin typeface="바탕"/>
                <a:ea typeface="바탕"/>
                <a:hlinkClick r:id="rId1"/>
              </a:rPr>
              <a:t>Perim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ata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410082"/>
                </a:solidFill>
                <a:uFillTx/>
                <a:latin typeface="바탕"/>
                <a:ea typeface="바탕"/>
                <a:hlinkClick r:id="rId2"/>
              </a:rPr>
              <a:t>Surface Area of a Polyg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ata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410082"/>
                </a:solidFill>
                <a:uFillTx/>
                <a:latin typeface="바탕"/>
                <a:ea typeface="바탕"/>
                <a:hlinkClick r:id="rId3"/>
              </a:rPr>
              <a:t>Multiply Decim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ata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410082"/>
                </a:solidFill>
                <a:uFillTx/>
                <a:latin typeface="바탕"/>
                <a:ea typeface="바탕"/>
                <a:hlinkClick r:id="rId4"/>
              </a:rPr>
              <a:t>Using Lattice Multipl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ata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410082"/>
                </a:solidFill>
                <a:uFillTx/>
                <a:latin typeface="바탕"/>
                <a:ea typeface="바탕"/>
                <a:hlinkClick r:id="rId5"/>
              </a:rPr>
              <a:t>Circumference of a Circ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9676d"/>
                </a:solidFill>
                <a:latin typeface="Times New Roman"/>
              </a:rPr>
              <a:t>Did you know?</a:t>
            </a:r>
            <a:endParaRPr b="0" lang="en-US" sz="4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word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geometry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es back as far as the ancient Egyptians coined the term as a result of having to remeasure their land areas as a result of the flooding of the Nile River. Let’s look together!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Ge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ear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Met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mea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2" descr="C:\Users\Mommy\AppData\Local\Microsoft\Windows\Temporary Internet Files\Content.IE5\1HVGCSDW\MP900399405[1]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121280" y="4516560"/>
            <a:ext cx="3644640" cy="31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9676d"/>
                </a:solidFill>
                <a:latin typeface="Times New Roman"/>
                <a:ea typeface="바탕"/>
              </a:rPr>
              <a:t>Feelings on Geometry</a:t>
            </a:r>
            <a:endParaRPr b="0" lang="en-US" sz="4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"/>
                <a:ea typeface="바탕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바탕"/>
                <a:ea typeface="바탕"/>
              </a:rPr>
              <a:t>Before we begin, I’d  like to know your feelings about geometry.  Please complete the survey be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410082"/>
                </a:solidFill>
                <a:uFillTx/>
                <a:latin typeface="Blackadder ITC"/>
                <a:hlinkClick r:id="rId1"/>
              </a:rPr>
              <a:t>Geometry Surv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icture 4" descr="C:\Users\STUDENT.M207\AppData\Local\Microsoft\Windows\Temporary Internet Files\Content.IE5\ECHVFUAM\MC900233966[1].wmf"/>
          <p:cNvPicPr/>
          <p:nvPr/>
        </p:nvPicPr>
        <p:blipFill>
          <a:blip r:embed="rId2"/>
          <a:stretch/>
        </p:blipFill>
        <p:spPr>
          <a:xfrm>
            <a:off x="4495680" y="3429000"/>
            <a:ext cx="3918240" cy="31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4" descr="C:\Users\Mommy\AppData\Local\Microsoft\Windows\Temporary Internet Files\Content.IE5\42FG7R33\MP900426562[1].jpg"/>
          <p:cNvPicPr/>
          <p:nvPr/>
        </p:nvPicPr>
        <p:blipFill>
          <a:blip r:embed="rId1"/>
          <a:stretch/>
        </p:blipFill>
        <p:spPr>
          <a:xfrm>
            <a:off x="249120" y="-55440"/>
            <a:ext cx="8560080" cy="887544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410082"/>
                </a:solidFill>
                <a:uFillTx/>
                <a:latin typeface="바탕"/>
                <a:ea typeface="바탕"/>
                <a:hlinkClick r:id="rId2"/>
              </a:rPr>
              <a:t>Perimeter</a:t>
            </a:r>
            <a:endParaRPr b="0" lang="en-US" sz="4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00000"/>
                </a:solidFill>
                <a:uFillTx/>
                <a:latin typeface="Times New Roman"/>
              </a:rPr>
              <a:t>Math Message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Times New Roman"/>
              </a:rPr>
              <a:t>      </a:t>
            </a:r>
            <a:r>
              <a:rPr b="0" lang="en-US" sz="3200" spc="-1" strike="noStrike">
                <a:solidFill>
                  <a:srgbClr val="c00000"/>
                </a:solidFill>
                <a:latin typeface="Times New Roman"/>
              </a:rPr>
              <a:t>Read page 170 in your Student Reference Book and write two things you learned about perimeter on </a:t>
            </a:r>
            <a:r>
              <a:rPr b="0" lang="en-US" sz="3200" spc="-1" strike="noStrike" u="sng">
                <a:solidFill>
                  <a:srgbClr val="410082"/>
                </a:solidFill>
                <a:uFillTx/>
                <a:latin typeface="Times New Roman"/>
                <a:hlinkClick r:id="rId3"/>
              </a:rPr>
              <a:t>501 class blog</a:t>
            </a:r>
            <a:r>
              <a:rPr b="0" lang="en-US" sz="3200" spc="-1" strike="noStrike">
                <a:solidFill>
                  <a:srgbClr val="c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ata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"/>
                <a:ea typeface="바탕"/>
              </a:rPr>
              <a:t>Use what you’ve learned about area and perimeter to build your own house.  Find out how by clicking on house below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410082"/>
                </a:solidFill>
                <a:uFillTx/>
                <a:latin typeface="Times New Roman"/>
                <a:hlinkClick r:id="rId1"/>
              </a:rPr>
              <a:t>Surface Area </a:t>
            </a:r>
            <a:endParaRPr b="0" lang="en-US" sz="4400" spc="-1" strike="noStrike">
              <a:solidFill>
                <a:srgbClr val="69676d"/>
              </a:solidFill>
              <a:latin typeface="Times New Roman"/>
            </a:endParaRPr>
          </a:p>
        </p:txBody>
      </p:sp>
      <p:pic>
        <p:nvPicPr>
          <p:cNvPr id="114" name="Picture 4" descr="C:\Users\Mommy\AppData\Local\Microsoft\Windows\Temporary Internet Files\Content.IE5\LMFQ94S5\MC910217021[1].png"/>
          <p:cNvPicPr/>
          <p:nvPr/>
        </p:nvPicPr>
        <p:blipFill>
          <a:blip r:embed="rId2"/>
          <a:stretch/>
        </p:blipFill>
        <p:spPr>
          <a:xfrm>
            <a:off x="5486400" y="4038480"/>
            <a:ext cx="2506680" cy="26305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5" descr="C:\Users\Mommy\AppData\Local\Microsoft\Windows\Temporary Internet Files\Content.IE5\42FG7R33\MC900129870[1].wmf"/>
          <p:cNvPicPr/>
          <p:nvPr/>
        </p:nvPicPr>
        <p:blipFill>
          <a:blip r:embed="rId3"/>
          <a:stretch/>
        </p:blipFill>
        <p:spPr>
          <a:xfrm>
            <a:off x="914400" y="3962520"/>
            <a:ext cx="398628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" dur="1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cb084"/>
                                      </p:to>
                                    </p:animClr>
                                    <p:animClr clrSpc="rgb">
                                      <p:cBhvr>
                                        <p:cTn id="21" dur="1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cb084"/>
                                      </p:to>
                                    </p:animClr>
                                    <p:set>
                                      <p:cBhvr>
                                        <p:cTn id="22" dur="1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9676d"/>
                </a:solidFill>
                <a:latin typeface="바탕"/>
                <a:ea typeface="바탕"/>
              </a:rPr>
              <a:t>Multiplying Decimals</a:t>
            </a:r>
            <a:endParaRPr b="0" lang="en-US" sz="4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times when computing area, the measurements may be in decimal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ember the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strateg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or multiplying with decimal numb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Picture 2" descr="C:\Users\Mommy\AppData\Local\Microsoft\Windows\Temporary Internet Files\Content.IE5\1HVGCSDW\MC900057540[1].wmf"/>
          <p:cNvPicPr/>
          <p:nvPr/>
        </p:nvPicPr>
        <p:blipFill>
          <a:blip r:embed="rId1"/>
          <a:stretch/>
        </p:blipFill>
        <p:spPr>
          <a:xfrm>
            <a:off x="1371600" y="4343400"/>
            <a:ext cx="49528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" dur="1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cb084"/>
                                      </p:to>
                                    </p:animClr>
                                    <p:animClr clrSpc="rgb">
                                      <p:cBhvr>
                                        <p:cTn id="34" dur="1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cb084"/>
                                      </p:to>
                                    </p:animClr>
                                    <p:set>
                                      <p:cBhvr>
                                        <p:cTn id="35" dur="1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02T01:58:37Z</dcterms:created>
  <dc:creator>Mommy</dc:creator>
  <dc:description/>
  <dc:language>en-US</dc:language>
  <cp:lastModifiedBy>Brooklyn College</cp:lastModifiedBy>
  <dcterms:modified xsi:type="dcterms:W3CDTF">2010-08-03T23:29:46Z</dcterms:modified>
  <cp:revision>112</cp:revision>
  <dc:subject/>
  <dc:title>Geometry</dc:title>
</cp:coreProperties>
</file>